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CA6-1F5C-43FC-ABF6-3F3CA8BA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FA3-6C6C-4740-BFFC-CFB47CF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54C-E7D8-4E07-81EF-03779DB7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90F-2668-4027-AC4F-7BD7EE98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F20-DDFC-4C27-A047-AF9739C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054-9DFD-4425-A7FC-DDE70694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090-A2F6-4943-B37D-0FBC6E2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137-84BA-4E9F-9D12-A615B444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9CC-F511-460D-8A19-7B7F069C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2BD-36D5-4B3F-8FC4-D620D1E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5AA-E0A4-4126-924E-5BEED18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60C-DD53-4509-8069-CE472E3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4ED5-357A-42FA-B784-98AF211E3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365120" y="19080"/>
            <a:ext cx="6315120" cy="2668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920880" y="3365640"/>
            <a:ext cx="77421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822320"/>
            <a:ext cx="82425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алые колебания – это колебания, которые система совершает около положения устойчивого равнове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иболее простой является система, которая имеет одну степень своб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дномерный осциллятор – это система, совершающая одномерные малые колеб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вободные колебаний – это малые колебания, которые происходят в отсутствие сил т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тота малых колебаний всецело определяется свойствами механической системы как таковой и не зависит от нача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аза колебаний – это аргумент синуса или косинуса; показывает какая часть колебания совершилась к данному моменту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мплитуда – это коэффициент при периодическом множителе в решении урав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чальное значение фазы зависит от выбора начала отсчёта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малые колебания,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ифференциальное уравнение движения одномерного осциллятора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2862360" y="2819520"/>
                <a:ext cx="2624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3124080" y="5257800"/>
                <a:ext cx="2903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шение дифференциального уравнения малых свободных колебаний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астота колебаний определяется выражени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2666880" y="3048120"/>
                <a:ext cx="3413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581280" y="4917960"/>
                <a:ext cx="16002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урав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Энергия системы, совершающей малые колебания, ра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2209680" y="3581280"/>
                <a:ext cx="5273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йти частоту колебаний точки массы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движущейся по абсолютно гладкой горизонтальной прямой и прикреплённой к пружине, другой конец которой закреплён на расстоянии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h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от прямой. Жёсткость пружины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 k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длина в ненапряжённом состоянии </a:t>
            </a:r>
            <a:r>
              <a:rPr b="0" lang="en-GB" sz="3600" spc="-1" strike="noStrike">
                <a:solidFill>
                  <a:srgbClr val="000000"/>
                </a:solidFill>
                <a:latin typeface="Monotype Corsiva"/>
              </a:rPr>
              <a:t>l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берем в качестве обобщённой координаты угол между вертикалью и пружиной. Смещение точки будет ра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3" descr=""/>
          <p:cNvPicPr/>
          <p:nvPr/>
        </p:nvPicPr>
        <p:blipFill>
          <a:blip r:embed="rId1"/>
          <a:stretch/>
        </p:blipFill>
        <p:spPr>
          <a:xfrm>
            <a:off x="3041640" y="4005360"/>
            <a:ext cx="33656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2:44Z</dcterms:modified>
  <cp:revision>6</cp:revision>
  <dc:subject/>
  <dc:title>Слайд 1</dc:title>
</cp:coreProperties>
</file>